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larmbuzzer.wav" ContentType="audio/x-wav"/>
  <Override PartName="/ppt/media/wow1.wav" ContentType="audio/x-wav"/>
  <Override PartName="/ppt/media/yeehaw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736-6B02-4A0B-AE23-31684FCC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446-3C45-459E-B281-5AB49AD6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836-5B23-471E-ABA5-2746D3E3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82D-7145-4396-8AFB-457E8321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46AD-0C40-4C88-AD63-65159480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E454-0752-44AD-9D80-327474A9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D2C2-5F62-43FD-91BC-181B0172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2575-B8B4-44D1-BE65-7165A42E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998A-1959-4AAD-B271-2396B6AC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FADE-7091-4CD6-B647-CC75C716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45D3-BC30-42D6-A4A8-5AACB5E8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8CF-27F4-433A-B2A5-EA6CCC92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F190-A718-4FBE-A779-6089D789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8B9E-FFBC-4D24-8D12-23169292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0173-929E-43E8-B579-C9868329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D219-85D5-401B-A0AA-6AFE9EBB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860A-8792-4A8B-ABB0-03D34FA0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4C6-6E4A-4C88-8E57-521AD8B9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5B9-6E61-4718-B326-FBFA59A3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436-47B2-4198-A8C1-C8113B66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C31-7708-4F96-9013-FDF1D4A4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074-9F04-4DEC-9C63-D35EE305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6C4-E007-4D62-B9F9-DD1AB04D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ADF-3740-446C-A6F6-44473CCC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99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E842-BD3F-41EE-8CD0-75228C054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9933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99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9933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2B48-FDE0-4EA4-A34C-34B2ED41C08F}" type="slidenum">
              <a:rPr b="0" lang="en-US" sz="1400" spc="-1" strike="noStrike">
                <a:solidFill>
                  <a:srgbClr val="9933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2.xml"/><Relationship Id="rId3" Type="http://schemas.openxmlformats.org/officeDocument/2006/relationships/slide" Target="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6.xml"/><Relationship Id="rId3" Type="http://schemas.openxmlformats.org/officeDocument/2006/relationships/slide" Target="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8.xml"/><Relationship Id="rId3" Type="http://schemas.openxmlformats.org/officeDocument/2006/relationships/slide" Target="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2.xml"/><Relationship Id="rId3" Type="http://schemas.openxmlformats.org/officeDocument/2006/relationships/slide" Target="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yeeha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larmbuzz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ow1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enry and Mudge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8095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Spelling</a:t>
            </a:r>
            <a:endParaRPr b="0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Right or Wrong ???</a:t>
            </a:r>
            <a:endParaRPr b="0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Created by Kathy Wiles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July 22, 2008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a sound you left out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6" name="AutoShape 4">
            <a:hlinkClick r:id="" action="ppaction://hlinkshowjump?jump=previousslide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9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1" action="ppaction://hlinksldjump"/>
              </a:rPr>
              <a:t>hand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Han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a sound you left out and watch for 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Comic Sans MS"/>
              </a:rPr>
              <a:t>that</a:t>
            </a: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 capital letter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4" name="AutoShape 4">
            <a:hlinkClick r:id="" action="ppaction://hlinkshowjump?jump=previousslide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7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9" name="Text Box 3">
            <a:hlinkClick r:id="rId1" action="ppaction://hlinksldjump"/>
          </p:cNvPr>
          <p:cNvSpPr/>
          <p:nvPr/>
        </p:nvSpPr>
        <p:spPr>
          <a:xfrm>
            <a:off x="2057400" y="297180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brav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0" name="Text Box 4">
            <a:hlinkClick r:id="rId3" action="ppaction://hlinksldjump"/>
          </p:cNvPr>
          <p:cNvSpPr/>
          <p:nvPr/>
        </p:nvSpPr>
        <p:spPr>
          <a:xfrm>
            <a:off x="2133720" y="4038480"/>
            <a:ext cx="2971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4" action="ppaction://hlinksldjump"/>
              </a:rPr>
              <a:t>brv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a vowel sound you left out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3" name="AutoShape 4">
            <a:hlinkClick r:id="rId1" action="ppaction://hlinksldjump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6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8" name="Text Box 3">
            <a:hlinkClick r:id="rId1" action="ppaction://hlinksldjump"/>
          </p:cNvPr>
          <p:cNvSpPr/>
          <p:nvPr/>
        </p:nvSpPr>
        <p:spPr>
          <a:xfrm>
            <a:off x="2057400" y="297180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ast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9" name="Text Box 4">
            <a:hlinkClick r:id="rId3" action="ppaction://hlinksldjump"/>
          </p:cNvPr>
          <p:cNvSpPr/>
          <p:nvPr/>
        </p:nvSpPr>
        <p:spPr>
          <a:xfrm>
            <a:off x="2133720" y="4038480"/>
            <a:ext cx="2971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4" action="ppaction://hlinksldjump"/>
              </a:rPr>
              <a:t>ask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the last sound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2" name="AutoShape 4">
            <a:hlinkClick r:id="rId1" action="ppaction://hlinksldjump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Guess the Correct Word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One word is wrong and one is right.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Choose the </a:t>
            </a:r>
            <a:r>
              <a:rPr b="1" lang="en-US" sz="3200" spc="-1" strike="noStrike" u="sng">
                <a:solidFill>
                  <a:srgbClr val="9933ff"/>
                </a:solidFill>
                <a:uFillTx/>
                <a:latin typeface="Comic Sans MS"/>
              </a:rPr>
              <a:t>correct</a:t>
            </a: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 word.</a:t>
            </a: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5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7" name="Text Box 3">
            <a:hlinkClick r:id="rId1" action="ppaction://hlinksldjump"/>
          </p:cNvPr>
          <p:cNvSpPr/>
          <p:nvPr/>
        </p:nvSpPr>
        <p:spPr>
          <a:xfrm>
            <a:off x="2057400" y="297180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cip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8" name="Text Box 4">
            <a:hlinkClick r:id="rId3" action="ppaction://hlinksldjump"/>
          </p:cNvPr>
          <p:cNvSpPr/>
          <p:nvPr/>
        </p:nvSpPr>
        <p:spPr>
          <a:xfrm>
            <a:off x="2133720" y="4038480"/>
            <a:ext cx="2971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4" action="ppaction://hlinksldjump"/>
              </a:rPr>
              <a:t>clip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the consonant blend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1" name="AutoShape 4">
            <a:hlinkClick r:id="rId1" action="ppaction://hlinksldjump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4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6" name="Text Box 3">
            <a:hlinkClick r:id="rId1" action="ppaction://hlinksldjump"/>
          </p:cNvPr>
          <p:cNvSpPr/>
          <p:nvPr/>
        </p:nvSpPr>
        <p:spPr>
          <a:xfrm>
            <a:off x="2057400" y="297180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stream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7" name="Text Box 4">
            <a:hlinkClick r:id="rId3" action="ppaction://hlinksldjump"/>
          </p:cNvPr>
          <p:cNvSpPr/>
          <p:nvPr/>
        </p:nvSpPr>
        <p:spPr>
          <a:xfrm>
            <a:off x="2133720" y="4038480"/>
            <a:ext cx="2971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4" action="ppaction://hlinksldjump"/>
              </a:rPr>
              <a:t>strem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his word has a vowel digraph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0" name="AutoShape 4">
            <a:hlinkClick r:id="rId1" action="ppaction://hlinksldjump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3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5" name="Text Box 3">
            <a:hlinkClick r:id="rId1" action="ppaction://hlinksldjump"/>
          </p:cNvPr>
          <p:cNvSpPr/>
          <p:nvPr/>
        </p:nvSpPr>
        <p:spPr>
          <a:xfrm>
            <a:off x="2057400" y="297180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mas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6" name="Text Box 4">
            <a:hlinkClick r:id="rId3" action="ppaction://hlinksldjump"/>
          </p:cNvPr>
          <p:cNvSpPr/>
          <p:nvPr/>
        </p:nvSpPr>
        <p:spPr>
          <a:xfrm>
            <a:off x="2133720" y="4038480"/>
            <a:ext cx="2971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4" action="ppaction://hlinksldjump"/>
              </a:rPr>
              <a:t>mast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the last sound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29" name="AutoShape 4">
            <a:hlinkClick r:id="rId1" action="ppaction://hlinksldjump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1" action="ppaction://hlinksldjump"/>
              </a:rPr>
              <a:t>stop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stoop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4" name="Text Box 3">
            <a:hlinkClick r:id="rId1" action="ppaction://hlinksldjump"/>
          </p:cNvPr>
          <p:cNvSpPr/>
          <p:nvPr/>
        </p:nvSpPr>
        <p:spPr>
          <a:xfrm>
            <a:off x="2057400" y="297180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twin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5" name="Text Box 4">
            <a:hlinkClick r:id="rId3" action="ppaction://hlinksldjump"/>
          </p:cNvPr>
          <p:cNvSpPr/>
          <p:nvPr/>
        </p:nvSpPr>
        <p:spPr>
          <a:xfrm>
            <a:off x="2133720" y="4038480"/>
            <a:ext cx="2971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4" action="ppaction://hlinksldjump"/>
              </a:rPr>
              <a:t>tvin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the blend sound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1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057400" y="29718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Comic Sans MS"/>
              </a:rPr>
              <a:t>brez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133720" y="4038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Comic Sans MS"/>
              </a:rPr>
              <a:t>breez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his word has a vowel digraph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0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2057400" y="29718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Comic Sans MS"/>
              </a:rPr>
              <a:t>stat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133720" y="4038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Comic Sans MS"/>
              </a:rPr>
              <a:t>sate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the consonant blend. 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7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7200" spc="-1" strike="noStrike">
                <a:solidFill>
                  <a:srgbClr val="9933ff"/>
                </a:solidFill>
                <a:latin typeface="Comic Sans MS"/>
              </a:rPr>
              <a:t>Good job !!!</a:t>
            </a:r>
            <a:endParaRPr b="0" lang="en-US" sz="7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ff"/>
                </a:solidFill>
                <a:latin typeface="Comic Sans MS"/>
              </a:rPr>
              <a:t>Keep up the</a:t>
            </a:r>
            <a:endParaRPr b="0" lang="en-US" sz="7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9933ff"/>
                </a:solidFill>
                <a:latin typeface="Comic Sans MS"/>
              </a:rPr>
              <a:t>good work.</a:t>
            </a:r>
            <a:endParaRPr b="0" lang="en-US" sz="72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he word you chose does not have a short “o” vowel sound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9" name="AutoShape 4">
            <a:hlinkClick r:id="" action="ppaction://hlinkshowjump?jump=previousslide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62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1" action="ppaction://hlinksldjump"/>
              </a:rPr>
              <a:t>stap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Comic Sans MS"/>
                <a:hlinkClick r:id="rId2" action="ppaction://hlinksldjump"/>
              </a:rPr>
              <a:t>strap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Listen for a sound you left out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Try again.</a:t>
            </a:r>
            <a:endParaRPr b="0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67" name="AutoShape 4">
            <a:hlinkClick r:id="" action="ppaction://hlinkshowjump?jump=previousslide"/>
          </p:cNvPr>
          <p:cNvSpPr/>
          <p:nvPr/>
        </p:nvSpPr>
        <p:spPr>
          <a:xfrm>
            <a:off x="3657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ff"/>
                </a:solidFill>
                <a:latin typeface="Comic Sans MS"/>
              </a:rPr>
              <a:t>GOOD JOB!!!</a:t>
            </a: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ff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Try another.</a:t>
            </a:r>
            <a:endParaRPr b="0" lang="en-US" sz="2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0" name="AutoShape 4">
            <a:hlinkClick r:id="" action="ppaction://hlinkshowjump?jump=nextslide"/>
          </p:cNvPr>
          <p:cNvSpPr/>
          <p:nvPr/>
        </p:nvSpPr>
        <p:spPr>
          <a:xfrm>
            <a:off x="76960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Let’s get started…..</a:t>
            </a:r>
            <a:endParaRPr b="0" lang="en-US" sz="4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2" name="Text Box 5">
            <a:hlinkClick r:id="rId1" action="ppaction://hlinksldjump"/>
          </p:cNvPr>
          <p:cNvSpPr/>
          <p:nvPr/>
        </p:nvSpPr>
        <p:spPr>
          <a:xfrm>
            <a:off x="2057400" y="29718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Comic Sans MS"/>
              </a:rPr>
              <a:t>nex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3" name="Text Box 6">
            <a:hlinkClick r:id="rId2" action="ppaction://hlinksldjump"/>
          </p:cNvPr>
          <p:cNvSpPr/>
          <p:nvPr/>
        </p:nvSpPr>
        <p:spPr>
          <a:xfrm>
            <a:off x="2133720" y="4038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Comic Sans MS"/>
              </a:rPr>
              <a:t>next</a:t>
            </a:r>
            <a:endParaRPr b="0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7:31:42Z</dcterms:created>
  <dc:creator>S12</dc:creator>
  <dc:description/>
  <dc:language>en-US</dc:language>
  <cp:lastModifiedBy>Laura McDow</cp:lastModifiedBy>
  <dcterms:modified xsi:type="dcterms:W3CDTF">2010-08-26T00:23:21Z</dcterms:modified>
  <cp:revision>13</cp:revision>
  <dc:subject/>
  <dc:title>Henry and Mudge</dc:title>
</cp:coreProperties>
</file>